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C8A9-4640-4AC4-BA82-47CA46C78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D40E-1BE5-4523-9D15-B474D213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554E-B121-4A48-BFA0-E411741F6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FE2B-B96D-4E97-93DD-347615ECA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8056-71BF-43F9-BED7-1E716D41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BB98-6E2A-41E3-843B-EFF2B717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69ED-2722-4172-9250-4154ACB7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ECE6-3389-4258-ADC2-B3C19507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83CE-6BE6-4FCE-9AAA-CC951F5F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4D41-3536-4163-B1DF-0044DD77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979B-3151-49C6-AE6E-8178F31E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00C2-7512-48D3-B2FF-7FCB7CD0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Q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Q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A3FF-2E8D-40A3-A8C1-0711FF009D74}" type="slidenum">
              <a:rPr b="0" lang="ar-Q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133720" y="228600"/>
            <a:ext cx="33526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be0e3"/>
                  </a:solidFill>
                  <a:miter/>
                </a:ln>
                <a:solidFill>
                  <a:srgbClr val="000080">
                    <a:alpha val="75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arm - Up  Activity 4</a:t>
            </a:r>
            <a:endParaRPr b="0" lang="en-US" sz="1800" spc="1" strike="noStrike">
              <a:ln w="12600">
                <a:solidFill>
                  <a:srgbClr val="bbe0e3"/>
                </a:solidFill>
                <a:miter/>
              </a:ln>
              <a:solidFill>
                <a:srgbClr val="000080">
                  <a:alpha val="75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Picture 5" descr="23820752"/>
          <p:cNvPicPr/>
          <p:nvPr/>
        </p:nvPicPr>
        <p:blipFill>
          <a:blip r:embed="rId1"/>
          <a:stretch/>
        </p:blipFill>
        <p:spPr>
          <a:xfrm>
            <a:off x="290520" y="228600"/>
            <a:ext cx="1309680" cy="11080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228600" y="8564400"/>
            <a:ext cx="640080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 Activity  Sheet # 4 in student workbook . Reference : SB4- What is Resear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5410080"/>
            <a:ext cx="6858000" cy="297180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0" y="1523880"/>
            <a:ext cx="6858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lour print this document. Enlarge with a photocopier if requ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minate the true / false board who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t the red and blue sheets into cards and laminate individu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lit children into groups of six (appro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ive each group a True / False bo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lit each group into two teams and give one team a blue set of cards and the other team a red set of cards all face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ch team takes it in turn to turn over one card at a time. The team discusses whether the statement is true or false and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ces it on a square on the True/False bo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first team to get four in a row w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8001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152280" y="80010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minated cards are available – Resource Kit She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2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76320" y="304920"/>
          <a:ext cx="6705360" cy="7597800"/>
        </p:xfrm>
        <a:graphic>
          <a:graphicData uri="http://schemas.openxmlformats.org/drawingml/2006/table">
            <a:tbl>
              <a:tblPr/>
              <a:tblGrid>
                <a:gridCol w="1793880"/>
                <a:gridCol w="1558800"/>
                <a:gridCol w="1676520"/>
                <a:gridCol w="1676160"/>
              </a:tblGrid>
              <a:tr h="190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requires a  specific plan of procedu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results are meant to be confidential and not publish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 is guided by a specific research problem, question or hypothesi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ers have to be biased  at  tim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8100000"/>
                    </a:gradFill>
                  </a:tcPr>
                </a:tc>
              </a:tr>
              <a:tr h="161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does not involve a testable hypothesi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originates by chan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involves collection and interpretation of dat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is sceptical</a:t>
                      </a: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8100000"/>
                    </a:gradFill>
                  </a:tcPr>
                </a:tc>
              </a:tr>
              <a:tr h="190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activity must show ethical considerati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must be open and examine data from a variety of perspectiv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is ambiguous</a:t>
                      </a: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is a truth seeking activ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8100000"/>
                    </a:gradFill>
                  </a:tcPr>
                </a:tc>
              </a:tr>
              <a:tr h="216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 always involves a scientific metho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aims to create new knowled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is only  a fact discovery activity</a:t>
                      </a: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usually  divides the principal problem into more manageable  sub problem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080"/>
                        </a:gs>
                        <a:gs pos="100000">
                          <a:srgbClr val="ffdada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49" name="TextBox 2"/>
          <p:cNvSpPr/>
          <p:nvPr/>
        </p:nvSpPr>
        <p:spPr>
          <a:xfrm>
            <a:off x="152280" y="80010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minated cards are available – Resource Kit She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2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76320" y="304920"/>
          <a:ext cx="6705360" cy="7597800"/>
        </p:xfrm>
        <a:graphic>
          <a:graphicData uri="http://schemas.openxmlformats.org/drawingml/2006/table">
            <a:tbl>
              <a:tblPr/>
              <a:tblGrid>
                <a:gridCol w="1793880"/>
                <a:gridCol w="1558800"/>
                <a:gridCol w="1676520"/>
                <a:gridCol w="1676160"/>
              </a:tblGrid>
              <a:tr h="190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requires a  specific plan of procedu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results are meant to be confidential and not publish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 is guided by a specific research problem, question or hypothesi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ers have to be biased  at  tim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161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does not involve a testable hypothesi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originates by chan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involves collection and interpretation of dat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is sceptical</a:t>
                      </a: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</a:tr>
              <a:tr h="190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activity must show ethical considerati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must be open and examine data from a variety of perspectiv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is ambiguous</a:t>
                      </a: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is a truth seeking activ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stretch/>
                    </a:blipFill>
                  </a:tcPr>
                </a:tc>
              </a:tr>
              <a:tr h="216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 always involves a scientific metho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aims to create new knowled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is only  a fact discovery activity</a:t>
                      </a: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usually  divides the principal problem into more manageable  sub problem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stretch/>
                    </a:blipFill>
                  </a:tcPr>
                </a:tc>
              </a:tr>
            </a:tbl>
          </a:graphicData>
        </a:graphic>
      </p:graphicFrame>
      <p:sp>
        <p:nvSpPr>
          <p:cNvPr id="51" name="TextBox 10"/>
          <p:cNvSpPr/>
          <p:nvPr/>
        </p:nvSpPr>
        <p:spPr>
          <a:xfrm>
            <a:off x="152280" y="80010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minated cards are available – Resource Kit She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2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7:24:22Z</dcterms:created>
  <dc:creator>Gene</dc:creator>
  <dc:description/>
  <dc:language>en-US</dc:language>
  <cp:lastModifiedBy>Gene</cp:lastModifiedBy>
  <dcterms:modified xsi:type="dcterms:W3CDTF">2008-03-03T17:24:37Z</dcterms:modified>
  <cp:revision>1</cp:revision>
  <dc:subject/>
  <dc:title>Slide 1</dc:title>
</cp:coreProperties>
</file>